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B08-659E-4744-8B45-7D9FA3CA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9C4-225C-46FE-900F-4BCB35C0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170-9853-44E7-90CC-3DBF9502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1CE-4F67-4902-8A26-C24AB87A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BAC-20DA-4CA9-B7D0-6C8DB213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C15-7174-4BF5-94D4-91156D40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A0C-243E-4321-90D4-A99E57A4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E03-E874-495D-A9FE-E9CFDC2F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198-FEBF-4BE9-ACBD-BD83DB6D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299-DD2F-4811-886D-5C29D99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061-7D14-42A3-91C8-3682567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E5F-547D-41F7-9112-72D7804D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EE5A-4E6D-4F02-81A3-C3AEB06A1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390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Perpetua Titling MT"/>
              </a:rPr>
              <a:t>El </a:t>
            </a:r>
            <a:r>
              <a:rPr b="0" lang="en-US" sz="4800" spc="-1" strike="noStrike" u="sng">
                <a:solidFill>
                  <a:srgbClr val="0000cc"/>
                </a:solidFill>
                <a:uFillTx/>
                <a:latin typeface="Perpetua Titling MT"/>
              </a:rPr>
              <a:t>teatro</a:t>
            </a:r>
            <a:r>
              <a:rPr b="0" lang="en-US" sz="4800" spc="-1" strike="noStrike">
                <a:solidFill>
                  <a:srgbClr val="0000cc"/>
                </a:solidFill>
                <a:latin typeface="Perpetua Titling MT"/>
              </a:rPr>
              <a:t> Fant</a:t>
            </a:r>
            <a:r>
              <a:rPr b="0" lang="en-US" sz="4800" spc="-1" strike="noStrike">
                <a:solidFill>
                  <a:srgbClr val="0000cc"/>
                </a:solidFill>
                <a:latin typeface="Perpetua Titling MT"/>
                <a:ea typeface="Arial"/>
              </a:rPr>
              <a:t>ástico</a:t>
            </a:r>
            <a:r>
              <a:rPr b="0" lang="en-US" sz="4800" spc="-1" strike="noStrike">
                <a:solidFill>
                  <a:srgbClr val="333399"/>
                </a:solidFill>
                <a:latin typeface="Perpetua Titling MT"/>
                <a:ea typeface="Arial"/>
              </a:rPr>
              <a:t>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n Apertur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Qu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é: Las Rocket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Cuando: 25 de Deciembre, 8: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La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rada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 es: $20- niños, $30- adul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Donde: Broadway, Nueva Y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Quien: los bailarines de Las Rocket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3733920"/>
            <a:ext cx="6095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El Teatro Fantástico, es un gran momento. El teatro es muy elegante y bonita. Las entrada son poco y hay pequeña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fila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 en la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boltería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. Hay buenos meriendas. En el teatro las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butacas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 hay muy cómodo. Los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actores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  son muy bueno y actúan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escenarios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. Le teatro está cerca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la metro estación. 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 Es muy conveniente. El 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Gill Sans MT"/>
                <a:ea typeface="Arial"/>
              </a:rPr>
              <a:t>obra teatro</a:t>
            </a:r>
            <a:r>
              <a:rPr b="0" lang="en-US" sz="1400" spc="-1" strike="noStrike">
                <a:solidFill>
                  <a:srgbClr val="800080"/>
                </a:solidFill>
                <a:latin typeface="Gill Sans MT"/>
                <a:ea typeface="Arial"/>
              </a:rPr>
              <a:t> es muy fantastico! Es un gran experiencia.</a:t>
            </a:r>
            <a:r>
              <a:rPr b="0" lang="en-US" sz="14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1468440" cy="2095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477120" y="1787400"/>
            <a:ext cx="2438280" cy="1879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85800" y="4876920"/>
            <a:ext cx="2971800" cy="17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248520" y="4952880"/>
            <a:ext cx="25905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3:25:29Z</dcterms:created>
  <dc:creator>zeliffmad</dc:creator>
  <dc:description/>
  <dc:language>en-US</dc:language>
  <cp:lastModifiedBy>zeliffmad</cp:lastModifiedBy>
  <dcterms:modified xsi:type="dcterms:W3CDTF">2011-12-23T17:54:09Z</dcterms:modified>
  <cp:revision>6</cp:revision>
  <dc:subject/>
  <dc:title>El teatro Fantástico! </dc:title>
</cp:coreProperties>
</file>